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FAC-6250-45BB-83C6-DBDB226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6E6-34AB-4C34-8B95-5E676F92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525-67B6-4078-A037-652D4CFD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97B-C2D7-4610-A51C-0869E365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D5BD-207C-446E-AE83-DBE05236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FBA-B4B5-4F8A-8043-0CA3A5F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2BB-006D-45F1-843E-6F78B3D6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17F6-F6F9-47F1-8432-2D20903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C81D-8100-4EF3-BD34-AD248E6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38B-07CA-445D-BC04-C6D9639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73BE-27D6-4422-94A6-0F64639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E77-3E8F-4996-8A1C-562ABF4A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C65F-44A8-4471-8CAA-ECF6B14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8440-FB86-48FE-B482-0CC5994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2EA-3F09-4895-A77E-811358F9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9FB4-2DE5-4BBF-98B3-717B68EA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BE0C-2CCA-483F-BC0D-0C722B7C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F6B-AABE-481A-8CA5-02F59E5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23E-2889-4A22-9BFF-86D1F60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A31-2F1D-4D38-AB6F-4215B26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15F-ABAE-4837-8A9F-6EABF62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60C-AA1B-4354-8FFF-0C2AF35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C12-93FD-4DBD-A6B6-B5D4E2F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3F8-BD5A-4977-B895-F53A891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80E-358B-4B74-BE15-374C84669052}" type="slidenum"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4E82-6025-41BD-8764-119AE09B476D}" type="slidenum"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Me llamo ____________       Clase 6 NH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AC Futura Casual"/>
              </a:rPr>
              <a:t>La fecha es el 23 de noviembre del 2011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AC Futura Casual"/>
              </a:rPr>
              <a:t>Propósito # 22: </a:t>
            </a: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¿Cuántos tipos de sustantivos hay?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AC Futura Casu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AC Futura Casu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CAC Futura Casual"/>
              </a:rPr>
              <a:t>Clasifica los sustantivos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Océano Pacifico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Río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Raúl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C Futura Casual"/>
              </a:rPr>
              <a:t>Dr. Soto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C Futura Casual"/>
              </a:rPr>
              <a:t>Practica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C Futura Casual"/>
              </a:rPr>
              <a:t>Divide las palabras en silabas, clasifica según el numero de silabas, encierra la silaba que tiene el acento y clasifica según el numero de silaba.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C Futura Casual"/>
              </a:rPr>
              <a:t>Bienvenidos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C Futura Casual"/>
              </a:rPr>
              <a:t>Luces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C Futura Casual"/>
              </a:rPr>
              <a:t>Cuentitos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C Futura Casual"/>
              </a:rPr>
              <a:t>Simpáticos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marL="731520" indent="-731520">
              <a:spcBef>
                <a:spcPts val="700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C Futura Casual"/>
              </a:rPr>
              <a:t>Tren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El Punto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C Futura Casual"/>
              </a:rPr>
              <a:t>El punto</a:t>
            </a: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 señala la mayor pausa.  Es decir, que termina el sentido de la oración.  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685800" indent="-68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Hay tres tipos de puntos: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685800" indent="-68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Punto seguido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685800" indent="-68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Punto aparte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marL="685800" indent="-68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Punto fina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AC Futura Casual"/>
              </a:rPr>
              <a:t>El punto seguido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C Futura Casual"/>
              </a:rPr>
              <a:t>El punto seguido</a:t>
            </a: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 se usa cuando la oración termina pero el párrafo no.  Así que las oraciones están una seguida de la otra.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El punto aparte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C Futura Casual"/>
              </a:rPr>
              <a:t>El punto aparte</a:t>
            </a: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 se usa cuando el párrafo termina pero el texto escrito continúa.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C Futura Casual"/>
              </a:rPr>
              <a:t>El punto final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C Futura Casual"/>
              </a:rPr>
              <a:t>El punto final</a:t>
            </a:r>
            <a:r>
              <a:rPr b="0" lang="es-ES" sz="4000" spc="-1" strike="noStrike">
                <a:solidFill>
                  <a:srgbClr val="000000"/>
                </a:solidFill>
                <a:latin typeface="CAC Futura Casual"/>
              </a:rPr>
              <a:t> es el que acaba el texto escrito.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3:28:56Z</dcterms:created>
  <dc:creator>Helen Zumaeta</dc:creator>
  <dc:description/>
  <dc:language>en-US</dc:language>
  <cp:lastModifiedBy>Helen Zumaeta</cp:lastModifiedBy>
  <dcterms:modified xsi:type="dcterms:W3CDTF">2011-11-23T04:17:08Z</dcterms:modified>
  <cp:revision>9</cp:revision>
  <dc:subject/>
  <dc:title>Me llamo ____________       Clase 6 NH La fecha es el 21 de noviembre del 2011</dc:title>
</cp:coreProperties>
</file>